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F04E-8EEC-426B-BB5A-B076E2853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29EE-4415-4182-83E0-DE0CA6647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43C4-960F-4559-8C20-0D54D2F4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1EF-C7A4-4323-AB79-0903ECF7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179-16F7-4203-A7B7-73670640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E7E-83B7-4F98-84C2-6F4850D2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970-E6E1-4226-84BC-FC4D7F29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2FE-E4A1-4E00-AD34-BFC9E224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556-A594-47AA-AC33-5A5D3738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0AD-9D3B-4074-A2F2-CE3EBF70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86B-68BF-49CE-B466-6E347636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D96-32D6-416A-BF7A-06D0F7AB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06D-702B-496B-A7DB-DE0650E0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0A1-2C46-4B7F-AEFC-E66004CD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1504-ACD4-4243-BACB-4002CF45487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25.xml"/><Relationship Id="rId11" Type="http://schemas.openxmlformats.org/officeDocument/2006/relationships/slide" Target="slide35.xml"/><Relationship Id="rId12" Type="http://schemas.openxmlformats.org/officeDocument/2006/relationships/slide" Target="slide45.xml"/><Relationship Id="rId13" Type="http://schemas.openxmlformats.org/officeDocument/2006/relationships/slide" Target="slide17.xml"/><Relationship Id="rId14" Type="http://schemas.openxmlformats.org/officeDocument/2006/relationships/slide" Target="slide27.xml"/><Relationship Id="rId15" Type="http://schemas.openxmlformats.org/officeDocument/2006/relationships/slide" Target="slide37.xml"/><Relationship Id="rId16" Type="http://schemas.openxmlformats.org/officeDocument/2006/relationships/slide" Target="slide47.xml"/><Relationship Id="rId17" Type="http://schemas.openxmlformats.org/officeDocument/2006/relationships/slide" Target="slide19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9.xml"/><Relationship Id="rId21" Type="http://schemas.openxmlformats.org/officeDocument/2006/relationships/slide" Target="slide39.xml"/><Relationship Id="rId22" Type="http://schemas.openxmlformats.org/officeDocument/2006/relationships/slide" Target="slide49.xml"/><Relationship Id="rId23" Type="http://schemas.openxmlformats.org/officeDocument/2006/relationships/slide" Target="slide31.xml"/><Relationship Id="rId24" Type="http://schemas.openxmlformats.org/officeDocument/2006/relationships/slide" Target="slide41.xml"/><Relationship Id="rId25" Type="http://schemas.openxmlformats.org/officeDocument/2006/relationships/slide" Target="slide51.xml"/><Relationship Id="rId26" Type="http://schemas.openxmlformats.org/officeDocument/2006/relationships/slide" Target="slide33.xml"/><Relationship Id="rId27" Type="http://schemas.openxmlformats.org/officeDocument/2006/relationships/slide" Target="slide43.xml"/><Relationship Id="rId28" Type="http://schemas.openxmlformats.org/officeDocument/2006/relationships/slide" Target="slide53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52388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apillari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are thin blood vessel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acemaker is another word for this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sino-atrial nod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carry blood away from the heart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arteri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connect veins to capillari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1905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venu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allow oxygen to leave the bloo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981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apillari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clot to stop bleeding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1600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latelet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4572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bonds to oxygen so that it can be transported throughout the body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hemoglobi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can prevent almost every circulatory diseas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7524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not smoking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09480" y="11430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ll cancers including Leukemia can be treated with thi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1371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Chemotherap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Hypertension can be treated with thes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09480" y="14479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medication, eating healthy or exercise.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unction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Diseas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Emergenci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revention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4" name="Picture 61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tructure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5800" y="2133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can be caused by sitting or standing for too long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Deep Vein Thrombos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62120" y="6094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disease is the only one of the five that involves a system other than Circulator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1752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Leukemi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cancer of the blood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Leukemi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is a clot in a blood vessel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9051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rombos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disease causes the arterial wall to thicken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19810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theroscleros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se contain hemoglobin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9144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disease is when the number of red blood cells and hemoglobin are low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981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emi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85800" y="2133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disease is when the pressure of blood flow increas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0020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High Blood Pressure/ Hypertensio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3"/>
          <p:cNvSpPr/>
          <p:nvPr/>
        </p:nvSpPr>
        <p:spPr>
          <a:xfrm>
            <a:off x="380880" y="152280"/>
            <a:ext cx="8305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When the heart looses function due to a blockage or spasm in an artery leading to the lack of oxygen and blood to the heart.</a:t>
            </a:r>
            <a:endParaRPr b="1" lang="en-US" sz="6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5800" y="19810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heart attack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5800" y="8380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en a part of the brain does not receive blood due to a blockage or rupture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33520" y="18288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strok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troke caused by a clot blocking a blood vessel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685800" y="2133720"/>
            <a:ext cx="78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33"/>
                </a:solidFill>
                <a:latin typeface="Times New Roman"/>
              </a:rPr>
              <a:t>What is an Ischemic Stroke?</a:t>
            </a:r>
            <a:endParaRPr b="1" lang="en-US" sz="8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8380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ed blood cell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troke caused by bleeding in the brain or a rupture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Hemorrhagic Strok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09480" y="1066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isc-shaped particles in the blood that aid clotting. 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213372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Platelet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hinktheme[1]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1371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blood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Circulatory system is made up of mostly thi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Blood is 55% th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85800" y="1600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plasm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heart is made up of two of these and two of these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atriums and ventric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Andy</cp:lastModifiedBy>
  <dcterms:modified xsi:type="dcterms:W3CDTF">2010-03-17T00:12:02Z</dcterms:modified>
  <cp:revision>30</cp:revision>
  <dc:subject/>
  <dc:title>No Slide Title</dc:title>
</cp:coreProperties>
</file>